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42F-EB0F-4CBD-8B64-E863D8BD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9EB-2A1E-41A7-95C0-1E53E30F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247-BA03-43C7-A3CF-0C80033D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708-4E99-4461-B2FC-753F9477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4638-DCAA-4BD9-A27B-EB25F6B5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792-D743-41B6-A0E5-BFAAC5F7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C96-E371-410D-B3CC-E637E56B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DB2-3A8F-483A-961B-26D2E276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1B9-0B0C-4420-94DD-80D14207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DB2-0CF4-4408-82A2-0E5B27F1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13F-497E-4A24-887D-C900A847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FBC-758E-48CC-B88E-D9BE0804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1B23-E0EA-4910-AFEF-90250DF55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98760" y="625320"/>
          <a:ext cx="5945040" cy="56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625320"/>
                    <a:ext cx="594504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2:47:42Z</dcterms:created>
  <dc:creator>Mark McNulty</dc:creator>
  <dc:description/>
  <dc:language>en-US</dc:language>
  <cp:lastModifiedBy>Mark McNulty</cp:lastModifiedBy>
  <dcterms:modified xsi:type="dcterms:W3CDTF">2007-03-16T04:36:22Z</dcterms:modified>
  <cp:revision>2</cp:revision>
  <dc:subject/>
  <dc:title>No Slide Title</dc:title>
</cp:coreProperties>
</file>